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</p:sldMasterIdLst>
  <p:sldIdLst>
    <p:sldId id="256" r:id="rId25"/>
    <p:sldId id="257" r:id="rId26"/>
    <p:sldId id="258" r:id="rId27"/>
    <p:sldId id="259" r:id="rId28"/>
    <p:sldId id="260" r:id="rId29"/>
    <p:sldId id="261" r:id="rId30"/>
    <p:sldId id="262" r:id="rId31"/>
    <p:sldId id="263" r:id="rId32"/>
    <p:sldId id="26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" Target="slides/slide1.xml"/><Relationship Id="rId26" Type="http://schemas.openxmlformats.org/officeDocument/2006/relationships/slide" Target="slides/slide2.xml"/><Relationship Id="rId27" Type="http://schemas.openxmlformats.org/officeDocument/2006/relationships/slide" Target="slides/slide3.xml"/><Relationship Id="rId28" Type="http://schemas.openxmlformats.org/officeDocument/2006/relationships/slide" Target="slides/slide4.xml"/><Relationship Id="rId29" Type="http://schemas.openxmlformats.org/officeDocument/2006/relationships/slide" Target="slides/slide5.xml"/><Relationship Id="rId30" Type="http://schemas.openxmlformats.org/officeDocument/2006/relationships/slide" Target="slides/slide6.xml"/><Relationship Id="rId31" Type="http://schemas.openxmlformats.org/officeDocument/2006/relationships/slide" Target="slides/slide7.xml"/><Relationship Id="rId32" Type="http://schemas.openxmlformats.org/officeDocument/2006/relationships/slide" Target="slides/slide8.xml"/><Relationship Id="rId33" Type="http://schemas.openxmlformats.org/officeDocument/2006/relationships/slide" Target="slides/slide9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C2049-968D-4725-BCE7-5BBCD2D36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EB89E-43C4-43C5-82C1-43A5DC185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991846-9E4D-410E-A1E9-0C27425CF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662628-59C2-46C2-A2C8-91CE3779C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AF4DB7-A64D-41DD-86B3-B8648C552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7872F6-A4B7-40FC-94FB-4AAA1FB2F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A8B61B-E4EB-483E-A83A-29EA96315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E4EB93-F084-4984-A2A4-E11647511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7D33AB-BE5E-4AC4-B73E-D01C605DE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20EEB5-6430-44B1-96B6-B2E53E423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40EB8F-C313-448F-AF68-2D52E9C38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4D2516-6D0C-48DA-90D5-6ECDAA3A0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4BD3A-2C94-4D43-BA27-2F350060C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7F5CA1-2EF3-49EC-8031-75CD10984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F2E10B-1F7F-49F0-ACFD-DF630A188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3F5E55-0A3E-4557-8516-0B2401EAD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D7D439-FB8A-4310-AE06-604FEEA58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1BA4EC-6622-4450-BF3F-AC177A40A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C136EB-08FA-40A4-852B-10A2AEF35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24E182-0AFF-484D-BB84-B3AED9D44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442BBC-3C37-495A-8836-709EC6A4D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AB4C7F-258C-46B5-A9E4-0798B2B8B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D4E297-3894-4169-9050-3E2F87D92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FF84C-3719-41F7-9823-6A05649CC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EC090C-DDDE-4F22-A8AA-3B33D1AB0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03E293-8875-4C36-A495-9CE4C6139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9F272C-555A-42C3-93F2-2958DA6DB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F197CB-67E3-435C-8D50-5706CF150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C530E5-AD85-4541-8CA4-94DC087FB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B595B6-A47D-4163-A812-109D481BB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7595BA-C1B4-456F-9462-DAA887FDD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44A101-A0A1-426D-83EF-587FECAF9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65933B-8C86-4D91-9056-4874195FD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26B584-0B3F-48E2-B876-70BB3DC71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2EDFD-6EA3-4A2A-94BA-C539A6383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731F86-7263-41A4-A778-E1485E104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799016-502D-49BF-A15D-C8932A651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4017EB-D342-4714-BCBF-3D7ADC9E5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A881E0-9542-4329-B1BA-5E555EF5C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6F9AA4-CC78-41E7-B61C-217248D8C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F96C72-E5A6-414B-A554-5BFEBE2FD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BEAE51-938B-43D2-A2E7-ABF0985E1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B8EF23-B4F3-47D7-804D-C67374B9E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BE95C3-47E5-4C7F-8A1E-488D5484A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D44444-56DE-4ECF-80F8-2EE2CF714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94A2F-8487-42FA-9434-C66ACDF13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139281-DB70-4A93-9A23-117DFAEF9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553FA4-CE62-47CB-BED5-A1F40A0E8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D7E293-8E57-4042-8042-AD034FAA6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0384B9-7D9E-42AC-B9C9-8C6583FFB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AD6B69-2DC3-49D2-B1F9-5AA31A5D7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234A8F1-F8A2-4BBF-BAF6-70081BC75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64CFAC9-2ED4-48C1-9347-32F58502D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EB279E5-4E8C-4435-B7EA-F91FB0EBB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D3F60D5-38B8-4D42-98C9-4D60CDEBF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2F53E63-3CFA-4987-8AF9-0D1C2C84B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EF876-B619-4E71-BC26-57E2BB9D5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C3BCEF7-B018-4419-A400-7D265E83B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98626D7-DF89-423C-AD56-D945A13F1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52D3590-7B1D-4D4F-BDE4-4BE0C69EE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5C3AE01-0866-4458-A173-621F03167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9957270-479F-42D9-A5BA-D76EDD35B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84A9AF4-5099-4F2B-8A1B-744448534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351E05D-B7DA-4880-B7C8-9C3E1D72E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2E4A1F6-032C-435F-9BFA-A8F19EF81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C17DFC9-FC48-4027-9DF9-3AE731E8B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A629B7F-855A-4680-AA9D-D166B7239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05346-3495-45FA-9205-2B6C61972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8FA01C9-AB28-46DB-A3B2-148F23E2C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E9C4FCF-8CF5-47A9-827D-05A8F20E7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2A79F50-7878-491A-872D-044AD47D6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EDECA19-9FEE-4E51-BDC4-BE10E5EC7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D8820DA-E823-401B-B21D-EF8FB6F6F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EF27E56-938B-4FF8-A538-F519C7F7D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8618666-47BD-4E79-A13F-0488E9A3B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4B4F2AD-8567-429D-9844-F4B540FF3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A379C6E-0674-4A1D-A101-8714CEB29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943B784-3AEE-4C54-86E8-B37DC9FF7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08811-7922-4A05-8340-FEEBB92EA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C770D0E-8194-4414-B261-E0E06CD09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78C92EF-AC52-4843-98D1-8B116A1AD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7AD3EA2-D4AB-4EE2-BE7C-E0CF2B141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005FA06-26EA-4517-A534-DF88F9927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38F9BB3-CCE3-4FF9-A5F8-2CC90FF1B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4A055F5-1A41-45D1-BB72-BB2044430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88925D1-EC4A-4A4D-B7BA-C2363FD78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5AF47CA-4133-499B-8E42-EA2DA7E4F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0DF2034-FAB6-4B77-B97B-4715A1F04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56BC852-1721-4883-B228-4684AB2D9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ACCEA-C0D3-454B-9F91-003C22978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8CB4C08-DCC3-4271-9F0D-CE39D6972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E9B7D8B-0019-4AE3-8C5D-D227904D3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0619CA3-11AA-4DD5-A390-955228459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272365D-1271-401A-B260-E6F15366A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19826B4-C228-46BC-86A2-1ABE95414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AC89F26-3779-4844-8BA7-860EA7CEC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75B17FD-D6FB-423C-AA0E-CEF105574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1E972D5-06F2-456C-80ED-1439F65A7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2AEDA9B-A51B-4BD7-8D95-DB786A311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9596121-5C0B-4E12-AADF-DF204C913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12FDC-7D23-49C1-AF41-6701EC06D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F8D7812-4F9F-49F0-8815-95C20566F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AA2B1D2-E5D2-42E6-98C8-29EB0AD0B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225B98D-E884-46B4-8C0F-3243C14A6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CBFE033-1B4D-4FC2-A8EC-BA5FC4AB9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07AF387-CA2D-44BD-AE87-7EF664A2C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ED87C7B-2520-4F0B-BA67-19A1BED44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D497628-54AD-4749-8818-F9A22096B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83E5949-59F6-4D5B-B928-9DF7259F2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C60E270-3549-4F66-84FC-DA0686E0B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610DBD1-9412-4BD1-875C-60865371C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67A3A-98E2-46D5-864A-69DB9AD80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908EE-C830-4F47-AE1A-945469B09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072D784-E730-48FC-AF13-10E01EA36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354913B-0752-4B9B-BBA7-5233FDF86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7EBB373-2B2A-4806-BF91-F5C4C16D9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ED52D6F-A757-4A4D-813F-7FCA142B4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7E3CB8A-5E57-4CB3-87B5-27999EB10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5C3F05C-549B-455A-9B77-12671D6DC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17FCF25-F149-4C26-AAB4-0AB23BC24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342810B-94BF-4A01-ACB3-55993A1DA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120223C-23EC-4AB1-92A6-009D119DE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55F0C82-DB57-4525-97EF-998B78CE3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AC79C-DE79-40E7-BF14-CCABC448C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1E723FA-CAAF-4F09-ABD4-FEB6C93E2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A825F60-325E-4056-A3E5-F171C6C15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91D6199-3470-4919-BFC3-A742D5493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200D1CE-0E18-4266-A012-CD100A11D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7D528C4-352B-4210-AEA0-E05125E9B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10AC8CC-A818-48F5-8CBB-2A803F1C3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872597A-102B-42FF-9636-6717B533A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C4B63A4-3889-4638-9309-C0B8EB108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6991E43-1349-46CE-B100-5D1FE45E7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84F8D8B-AD19-4589-8426-EFF457BE0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D05B2-96A1-4ADC-BC10-068F47551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86D714F-67DF-4357-8414-64228911F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B5D077F-8290-416A-BD63-7789057FA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F04E65C-2F0C-4061-9413-549F738DE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5188647-72CD-428B-80AF-B3EC82FB5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BB070B6-E2E2-49C0-A9D1-20ACA2DFB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5623DAF-2B84-4337-95AA-EE8B7CF4E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FD4EB98-BC8F-4683-87C2-8262A0A4C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62BF57C-E5AF-4959-B1B6-FB4D6241B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70B5180-751E-489B-9433-611CD2512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3F83E34-2674-488B-8339-50C6D8428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C61EA-2D7A-46C0-B35C-842855833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4E2B3BB-F083-461F-9C4F-627B72566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27D370F-2F06-4164-A2FB-4CD54606D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E6FEF90-8BF0-4F92-AF53-76B6A8473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9B0612A-411E-4519-BAB5-6B254B456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2665CCB-7F53-4B7B-958B-88DBF5CBC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048CD40-CE8F-489B-B9D5-598511C46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B9E30B6-FF5F-4798-8B48-9DA60F3F8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799771D-1411-40A3-A7B7-306637527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73936E5-3D0E-4D81-8DE5-8F54E27BB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0BDDDC2-B7DC-445F-A6F2-2D9AA388E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A1EBC-5658-4BF8-9EE2-161BC51CC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A47378B-F113-4EE6-87BC-8ADB7845A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44F4FCD-5698-42AB-AEFF-8654F8A38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273BB80-D950-4103-BF88-DA688BF5F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E3CA05B-5A20-4324-8016-9B636605C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A3D5D7A-ECB8-423B-ABCD-047B68A97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8F1DC5E-F4A4-43F5-A7FD-39104F343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82D8673-70EA-46EF-92EC-638C453EE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BE5221B-F1D6-4A1C-B23F-7AAE976E9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A664C1A-204B-42DA-A57D-1891178EA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B3C7C43-8011-4BC3-80F2-872FA0171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7B968D-9B9F-46B4-9E50-B3F7FA5DF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D3FF5B8-B500-45C2-9C84-72E9106A7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6BA27DA-A044-4897-86F3-B690768AC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7F68768-308D-41D1-8F1F-4E38CFC11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84AF521-4F79-4AC8-B269-1738C43B2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A08B351-EC7E-41A9-A606-F673F9577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E5D6AF9-8E67-46D6-A82C-F9BA4E494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9F1DBFF-AD41-437E-BD14-EDE3B33B6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26D48DF-C54E-4B28-B001-1DFCF14A3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D848BFF-C92A-4230-85E7-B0FF04B1B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5742B25-1222-4A7C-B800-5881D01E3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D5A3A8-6F0F-442A-BEB6-84419485D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7512693-2500-4368-93EC-7F657E2FB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707970D-3B37-4A22-A3B1-8E50FC87F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762F395-3B14-4ACA-8DCE-E568F2688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0C27768-2F0D-4FC5-82DC-034164C49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FB8E609-B789-4937-A56C-8C4A122F4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79A9111-24C8-4DF5-9CE6-8FDC756EA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13A8DE7-598E-42B1-AB97-C78DD9121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56B7483-CB36-40C3-9EB0-5B5BC593B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40FA7FF-BAFB-4351-8FB8-AA7726265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E4AEC1C-7D26-4FBD-8EA5-EFE744D94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D75B66-AA32-46AD-ACD8-026DB0B25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67AEAE9-57AF-4E0B-A5CE-57F06EB48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F8B8070-5875-4754-AA01-0D90DA891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7C36B90-19E1-47B2-93E6-579633E36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331058C-A351-4A0A-9E37-458F85D77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6B3A7EA-CF51-441C-BBE3-FF89322E6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92EA826-39D8-4927-B095-6B2652E0A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14D5265-A86D-457D-AFEC-300DCC0EB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3D0187-1753-4691-A67A-116BF8DA4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957D7F-B7BC-45AF-BBE5-A8710C2C3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177D8-F542-4F7E-8BC9-375DC5F92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909827-271E-422E-B975-7966C8A47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2847C0-3AC2-4862-B03A-1E472B85F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4195CB-8278-4BFE-B5C9-5FD8E2CD0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0B3BF6-380D-4AC5-93D9-EA6620295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41DC98-E951-4EB3-BA24-ED74FCBB4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067085-E99A-4BB0-82E0-1924E8A5C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F55DDA-355D-4F2D-B803-94A955B03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A7B2BC-85C6-4706-A3F8-04BF017BB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0A1EAA-C622-4D1D-AA90-2523A3715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7E20A2-646B-4F81-963C-85873CCC4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4EE81-AA47-416E-99D6-C4F4AA6AD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BC45C1-33D1-4F4A-AF29-511DC143E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A7BC08-9C1D-4E5A-8A4E-8CF0E86F4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758770-A1E2-4C0F-80DC-49F339FBB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A23D12-A4ED-486B-B230-69805269A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D5F841-16A7-4140-899D-E6E1CD265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273130-0471-48CE-B8D9-425C90DA7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058457-77D4-48CD-AA9E-F0F02E8A8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F9D2FC-A4AC-4973-A71C-75555A531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05BD0B-6118-4423-9F97-158A4346E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F99EC9-4DDD-48BC-A639-39C066CB0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FA997-D261-4A34-9DE8-04E73ED87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204793-FEC7-481F-BC31-806428162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EA9BFF-FBAF-4509-8CA8-A4E4F5BBC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2296BE-C2C4-4D12-8803-54FB1F08C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A3C52C-C642-41AA-9317-C95CDEA2C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7F9BB9-6A81-45E4-8D3E-263858930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8A2A86-3866-49FB-9D34-72B07941C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542613-449D-4F94-9548-ACE6E8684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D3CF57-C9A9-4189-9918-4E4465003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2D45B3-D8C5-4FB7-B50E-643682E5A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34FAB1-3350-4903-B647-49F09240C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5B97C-8AAE-45D4-B253-9B5C4818E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8B55E3-C400-4A52-87B0-D0D973852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0D7378-4CF9-4479-B5DB-26854196E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CF7061-E10C-46B5-9418-CA6125A4D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36BA5C-0FB8-44DF-88EC-B1E8507B9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9D411B-D072-4EC7-A44C-2BB0EC2CC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864655-8DAF-4D40-81C6-5424E77C7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C1D3F1-4139-492B-962D-99CF92691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E5B080-EBE6-4910-A2C2-B0711B439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4C3027-877F-4417-9D6E-DD47F2C6C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01059C-CC3C-4F43-AF8A-DF080F02A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BE389-1E3E-4279-879B-A1249B9F1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A3CBA6-3E18-480E-8B5A-1ED33FF89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043822-9102-49C0-8AA6-5C440ED93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E94DC3-C82B-478D-9C77-8D2BEB604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2C4559-35F4-45C3-9522-CA09A4F56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2DB1AA-0836-48E6-B7F7-08963172E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60034D-B78E-4480-B194-2C0A27141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B1ACEA-8C93-47E2-9DC5-F978961CE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AC26F0-C4F5-4478-B988-682563D93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C8C324-663F-4E1E-9131-AF26C4D0E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B534F4-A126-4CE4-A30A-9416649E5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2BECD-0347-4689-8862-9EE3EBC3A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88BFC5-F6ED-4943-8BD1-723000275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32A31C-CDD1-413F-A6B4-AD0C8D09C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D6DDBC-5A77-4BB5-A39D-1D7155C9C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F30046-1420-42E4-810E-82EDAB6E8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A3112D-182C-421F-8E9F-D4985274D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2CF253-1C84-4011-8A8B-62AE57A23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58365F-EC8A-4BC7-AB0E-041B336FD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B93081-6F29-401F-A339-F8162C71C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DE1A07-6B81-4F5F-BAF3-D0636ED47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9AE8FB-6AA1-4603-AC13-99FEB08C8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33F10-30E2-4B20-9168-8A7840B25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C27D7E-615E-460B-B6C4-2B6516EED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9495A1-2299-4188-A11B-57386E9A2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6755C8-E9EC-4732-9AD2-EEABEF6E0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AA508F-A417-4DEA-B5F0-A2271A9B4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C0DB75-A018-4DC6-9756-BE9F329AE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FE0769-7B98-4E58-A526-AFA4963A2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C76C05-04FF-44CA-BAF4-33CFF687B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8EFE76-C453-4309-A894-98232EB55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47626C-9491-4F36-B344-416032057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C0FA22-26F7-4C80-8783-8C0A1C012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015C5-382E-401A-A846-4FA45F8B85F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88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F7AA4-C397-406B-AA83-6FAEADAD00F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CB944-C84B-4728-AA67-85FD36F3B8C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432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D0C00-7E48-4821-B104-7854168F1A9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9AA05-06A5-4169-BC09-43787FDDF72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C7F54-0F43-459F-A336-B721F3BAF4B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E6E5B-3392-492C-998C-AEE3189CBBE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7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18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024B3-FB46-41E1-8353-7EC3956E6AD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1E042-A796-4CF3-B726-9B70A8A9774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6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916FC-A3EC-462A-BC96-00F7E9C847C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4ADF4-C65E-441E-93A6-CE2623354C5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5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06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54854-C8DF-4BDD-B31D-06514943F53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C501E-C429-434A-8256-EF5600865D0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9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650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84F8A-56CF-41F2-9868-E8B4988E4EF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14D7D-06AB-438D-9C78-BE70115EEDF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3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94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39CB7-5DE6-49A7-BDA9-AA2F46810DE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6890A-D37C-4BA7-98BC-08645228931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8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3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AB2F3-471E-4F6D-A61B-0B2DF33B76F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9C615-CF8D-447B-A5A6-AF4C649993C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3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D1796-D6D2-48F1-8BA0-C9EA1955B83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0F1B3-4263-4E68-8232-BCF0B30E3E2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E98D1-6860-473B-B0CC-B8D2790BC8AC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7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28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18CAC-B4AC-4A40-8168-CB0AAEA60BE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8289D-AD13-4841-893A-FAC5D5219AF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2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73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2259D-9791-4885-8D46-ADC6729964C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39B4F-88A5-41BD-9FE9-6962414BDF3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918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5F89A-38D0-41A2-835E-B34E4E179E4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1A2D9-6577-4218-AD7A-90BAC0F4004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2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963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 type="dt" idx="6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E150F-287B-40B2-ABB4-E8F2D9B48FC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PlaceHolder 4"/>
          <p:cNvSpPr>
            <a:spLocks noGrp="1"/>
          </p:cNvSpPr>
          <p:nvPr>
            <p:ph type="ftr" idx="6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5"/>
          <p:cNvSpPr>
            <a:spLocks noGrp="1"/>
          </p:cNvSpPr>
          <p:nvPr>
            <p:ph type="sldNum" idx="6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A3C9A-B8BF-40E3-8BF6-3C3DF02B23B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2774C-1B5D-4B0B-8234-C9BA1140C54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85E30-3AF2-4EE4-9500-67ABEA948A4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4044E-B573-4A22-8EB4-BDE6254A740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68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B0C59-E8B7-41F0-8EBF-586F769857EA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212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AC543-3E17-439B-A710-31D8E4B52B4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B4B08-F91E-463C-82AD-E5A40C4D49B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56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938D2-6167-4F75-BAB6-AC82812248E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BCE5B-CB28-4499-92EF-DC40A36ACA2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300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49F83-25B1-4A33-BBF1-45C0BEB41DA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F0DBE-ADFE-45F9-9011-E170C64112E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19692-25A1-43A6-B723-174C68D1663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257AE-52C8-47F5-A3BE-A8A9BC50661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5" name="图片 1" descr=""/>
          <p:cNvPicPr/>
          <p:nvPr/>
        </p:nvPicPr>
        <p:blipFill>
          <a:blip r:embed="rId1"/>
          <a:stretch/>
        </p:blipFill>
        <p:spPr>
          <a:xfrm>
            <a:off x="130320" y="2971800"/>
            <a:ext cx="8883360" cy="9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6" name="图片 1" descr=""/>
          <p:cNvPicPr/>
          <p:nvPr/>
        </p:nvPicPr>
        <p:blipFill>
          <a:blip r:embed="rId1"/>
          <a:stretch/>
        </p:blipFill>
        <p:spPr>
          <a:xfrm>
            <a:off x="200160" y="446040"/>
            <a:ext cx="8743680" cy="6229440"/>
          </a:xfrm>
          <a:prstGeom prst="rect">
            <a:avLst/>
          </a:prstGeom>
          <a:ln w="0">
            <a:noFill/>
          </a:ln>
        </p:spPr>
      </p:pic>
      <p:pic>
        <p:nvPicPr>
          <p:cNvPr id="1007" name="Picture 1" descr=""/>
          <p:cNvPicPr/>
          <p:nvPr/>
        </p:nvPicPr>
        <p:blipFill>
          <a:blip r:embed="rId2"/>
          <a:stretch/>
        </p:blipFill>
        <p:spPr>
          <a:xfrm>
            <a:off x="7812000" y="1484280"/>
            <a:ext cx="1081080" cy="447840"/>
          </a:xfrm>
          <a:prstGeom prst="rect">
            <a:avLst/>
          </a:prstGeom>
          <a:ln w="0">
            <a:noFill/>
          </a:ln>
        </p:spPr>
      </p:pic>
      <p:pic>
        <p:nvPicPr>
          <p:cNvPr id="1008" name="Picture 1" descr=""/>
          <p:cNvPicPr/>
          <p:nvPr/>
        </p:nvPicPr>
        <p:blipFill>
          <a:blip r:embed="rId3"/>
          <a:stretch/>
        </p:blipFill>
        <p:spPr>
          <a:xfrm>
            <a:off x="1403280" y="2276640"/>
            <a:ext cx="1081080" cy="447480"/>
          </a:xfrm>
          <a:prstGeom prst="rect">
            <a:avLst/>
          </a:prstGeom>
          <a:ln w="0">
            <a:noFill/>
          </a:ln>
        </p:spPr>
      </p:pic>
      <p:pic>
        <p:nvPicPr>
          <p:cNvPr id="1009" name="Picture 1" descr=""/>
          <p:cNvPicPr/>
          <p:nvPr/>
        </p:nvPicPr>
        <p:blipFill>
          <a:blip r:embed="rId4"/>
          <a:stretch/>
        </p:blipFill>
        <p:spPr>
          <a:xfrm>
            <a:off x="6443640" y="304020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1010" name="Picture 1" descr=""/>
          <p:cNvPicPr/>
          <p:nvPr/>
        </p:nvPicPr>
        <p:blipFill>
          <a:blip r:embed="rId5"/>
          <a:stretch/>
        </p:blipFill>
        <p:spPr>
          <a:xfrm>
            <a:off x="3564000" y="3860640"/>
            <a:ext cx="1152360" cy="447840"/>
          </a:xfrm>
          <a:prstGeom prst="rect">
            <a:avLst/>
          </a:prstGeom>
          <a:ln w="0">
            <a:noFill/>
          </a:ln>
        </p:spPr>
      </p:pic>
      <p:pic>
        <p:nvPicPr>
          <p:cNvPr id="1011" name="Picture 1" descr=""/>
          <p:cNvPicPr/>
          <p:nvPr/>
        </p:nvPicPr>
        <p:blipFill>
          <a:blip r:embed="rId6"/>
          <a:stretch/>
        </p:blipFill>
        <p:spPr>
          <a:xfrm>
            <a:off x="8244000" y="465300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1012" name="Picture 1" descr=""/>
          <p:cNvPicPr/>
          <p:nvPr/>
        </p:nvPicPr>
        <p:blipFill>
          <a:blip r:embed="rId7"/>
          <a:stretch/>
        </p:blipFill>
        <p:spPr>
          <a:xfrm>
            <a:off x="1547640" y="543096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1013" name="Picture 1" descr=""/>
          <p:cNvPicPr/>
          <p:nvPr/>
        </p:nvPicPr>
        <p:blipFill>
          <a:blip r:embed="rId8"/>
          <a:stretch/>
        </p:blipFill>
        <p:spPr>
          <a:xfrm>
            <a:off x="5724360" y="5445000"/>
            <a:ext cx="115272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0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" dur="10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" dur="100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" dur="10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" dur="1000"/>
                                        <p:tgtEl>
                                          <p:spTgt spid="10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" dur="10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4" dur="1000"/>
                                        <p:tgtEl>
                                          <p:spTgt spid="10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4" name="图片 1" descr=""/>
          <p:cNvPicPr/>
          <p:nvPr/>
        </p:nvPicPr>
        <p:blipFill>
          <a:blip r:embed="rId1"/>
          <a:stretch/>
        </p:blipFill>
        <p:spPr>
          <a:xfrm>
            <a:off x="542880" y="1395360"/>
            <a:ext cx="8058240" cy="4067280"/>
          </a:xfrm>
          <a:prstGeom prst="rect">
            <a:avLst/>
          </a:prstGeom>
          <a:ln w="0">
            <a:noFill/>
          </a:ln>
        </p:spPr>
      </p:pic>
      <p:pic>
        <p:nvPicPr>
          <p:cNvPr id="1015" name="Picture 1" descr=""/>
          <p:cNvPicPr/>
          <p:nvPr/>
        </p:nvPicPr>
        <p:blipFill>
          <a:blip r:embed="rId2"/>
          <a:stretch/>
        </p:blipFill>
        <p:spPr>
          <a:xfrm>
            <a:off x="5580000" y="1557360"/>
            <a:ext cx="936720" cy="447480"/>
          </a:xfrm>
          <a:prstGeom prst="rect">
            <a:avLst/>
          </a:prstGeom>
          <a:ln w="0">
            <a:noFill/>
          </a:ln>
        </p:spPr>
      </p:pic>
      <p:pic>
        <p:nvPicPr>
          <p:cNvPr id="1016" name="Picture 1" descr=""/>
          <p:cNvPicPr/>
          <p:nvPr/>
        </p:nvPicPr>
        <p:blipFill>
          <a:blip r:embed="rId3"/>
          <a:stretch/>
        </p:blipFill>
        <p:spPr>
          <a:xfrm>
            <a:off x="3492360" y="2363760"/>
            <a:ext cx="1366920" cy="447840"/>
          </a:xfrm>
          <a:prstGeom prst="rect">
            <a:avLst/>
          </a:prstGeom>
          <a:ln w="0">
            <a:noFill/>
          </a:ln>
        </p:spPr>
      </p:pic>
      <p:pic>
        <p:nvPicPr>
          <p:cNvPr id="1017" name="Picture 1" descr=""/>
          <p:cNvPicPr/>
          <p:nvPr/>
        </p:nvPicPr>
        <p:blipFill>
          <a:blip r:embed="rId4"/>
          <a:stretch/>
        </p:blipFill>
        <p:spPr>
          <a:xfrm>
            <a:off x="5003640" y="3141720"/>
            <a:ext cx="1366920" cy="447480"/>
          </a:xfrm>
          <a:prstGeom prst="rect">
            <a:avLst/>
          </a:prstGeom>
          <a:ln w="0">
            <a:noFill/>
          </a:ln>
        </p:spPr>
      </p:pic>
      <p:pic>
        <p:nvPicPr>
          <p:cNvPr id="1018" name="Picture 1" descr=""/>
          <p:cNvPicPr/>
          <p:nvPr/>
        </p:nvPicPr>
        <p:blipFill>
          <a:blip r:embed="rId5"/>
          <a:stretch/>
        </p:blipFill>
        <p:spPr>
          <a:xfrm>
            <a:off x="3419640" y="3933720"/>
            <a:ext cx="1366560" cy="447840"/>
          </a:xfrm>
          <a:prstGeom prst="rect">
            <a:avLst/>
          </a:prstGeom>
          <a:ln w="0">
            <a:noFill/>
          </a:ln>
        </p:spPr>
      </p:pic>
      <p:pic>
        <p:nvPicPr>
          <p:cNvPr id="1019" name="Picture 1" descr=""/>
          <p:cNvPicPr/>
          <p:nvPr/>
        </p:nvPicPr>
        <p:blipFill>
          <a:blip r:embed="rId6"/>
          <a:stretch/>
        </p:blipFill>
        <p:spPr>
          <a:xfrm>
            <a:off x="1692360" y="4724280"/>
            <a:ext cx="136692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" dur="1000"/>
                                        <p:tgtEl>
                                          <p:spTgt spid="10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" dur="10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1" dur="10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6" dur="1000"/>
                                        <p:tgtEl>
                                          <p:spTgt spid="10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1" dur="1000"/>
                                        <p:tgtEl>
                                          <p:spTgt spid="10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0" name="图片 1" descr=""/>
          <p:cNvPicPr/>
          <p:nvPr/>
        </p:nvPicPr>
        <p:blipFill>
          <a:blip r:embed="rId1"/>
          <a:stretch/>
        </p:blipFill>
        <p:spPr>
          <a:xfrm>
            <a:off x="295200" y="1014480"/>
            <a:ext cx="8553600" cy="5429160"/>
          </a:xfrm>
          <a:prstGeom prst="rect">
            <a:avLst/>
          </a:prstGeom>
          <a:ln w="0">
            <a:noFill/>
          </a:ln>
        </p:spPr>
      </p:pic>
      <p:pic>
        <p:nvPicPr>
          <p:cNvPr id="1021" name="Picture 1" descr=""/>
          <p:cNvPicPr/>
          <p:nvPr/>
        </p:nvPicPr>
        <p:blipFill>
          <a:blip r:embed="rId2"/>
          <a:stretch/>
        </p:blipFill>
        <p:spPr>
          <a:xfrm>
            <a:off x="1836720" y="3573360"/>
            <a:ext cx="2448000" cy="288000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1" descr=""/>
          <p:cNvPicPr/>
          <p:nvPr/>
        </p:nvPicPr>
        <p:blipFill>
          <a:blip r:embed="rId3"/>
          <a:stretch/>
        </p:blipFill>
        <p:spPr>
          <a:xfrm>
            <a:off x="3564000" y="2781360"/>
            <a:ext cx="1800000" cy="447480"/>
          </a:xfrm>
          <a:prstGeom prst="rect">
            <a:avLst/>
          </a:prstGeom>
          <a:ln w="0">
            <a:noFill/>
          </a:ln>
        </p:spPr>
      </p:pic>
      <p:pic>
        <p:nvPicPr>
          <p:cNvPr id="1023" name="Picture 1" descr=""/>
          <p:cNvPicPr/>
          <p:nvPr/>
        </p:nvPicPr>
        <p:blipFill>
          <a:blip r:embed="rId4"/>
          <a:stretch/>
        </p:blipFill>
        <p:spPr>
          <a:xfrm>
            <a:off x="5940360" y="3587760"/>
            <a:ext cx="2952720" cy="2879640"/>
          </a:xfrm>
          <a:prstGeom prst="rect">
            <a:avLst/>
          </a:prstGeom>
          <a:ln w="0">
            <a:noFill/>
          </a:ln>
        </p:spPr>
      </p:pic>
      <p:pic>
        <p:nvPicPr>
          <p:cNvPr id="1024" name="Picture 1" descr=""/>
          <p:cNvPicPr/>
          <p:nvPr/>
        </p:nvPicPr>
        <p:blipFill>
          <a:blip r:embed="rId5"/>
          <a:stretch/>
        </p:blipFill>
        <p:spPr>
          <a:xfrm>
            <a:off x="7667640" y="2795760"/>
            <a:ext cx="129708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8" dur="10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3" dur="1000"/>
                                        <p:tgtEl>
                                          <p:spTgt spid="10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8" dur="1000"/>
                                        <p:tgtEl>
                                          <p:spTgt spid="10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3" dur="10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5" name="图片 1" descr=""/>
          <p:cNvPicPr/>
          <p:nvPr/>
        </p:nvPicPr>
        <p:blipFill>
          <a:blip r:embed="rId1"/>
          <a:stretch/>
        </p:blipFill>
        <p:spPr>
          <a:xfrm>
            <a:off x="600120" y="996840"/>
            <a:ext cx="7943760" cy="5305680"/>
          </a:xfrm>
          <a:prstGeom prst="rect">
            <a:avLst/>
          </a:prstGeom>
          <a:ln w="0">
            <a:noFill/>
          </a:ln>
        </p:spPr>
      </p:pic>
      <p:pic>
        <p:nvPicPr>
          <p:cNvPr id="1026" name="Picture 1" descr=""/>
          <p:cNvPicPr/>
          <p:nvPr/>
        </p:nvPicPr>
        <p:blipFill>
          <a:blip r:embed="rId2"/>
          <a:stretch/>
        </p:blipFill>
        <p:spPr>
          <a:xfrm>
            <a:off x="1547640" y="2924280"/>
            <a:ext cx="2448000" cy="3025800"/>
          </a:xfrm>
          <a:prstGeom prst="rect">
            <a:avLst/>
          </a:prstGeom>
          <a:ln w="0">
            <a:noFill/>
          </a:ln>
        </p:spPr>
      </p:pic>
      <p:pic>
        <p:nvPicPr>
          <p:cNvPr id="1027" name="Picture 1" descr=""/>
          <p:cNvPicPr/>
          <p:nvPr/>
        </p:nvPicPr>
        <p:blipFill>
          <a:blip r:embed="rId3"/>
          <a:stretch/>
        </p:blipFill>
        <p:spPr>
          <a:xfrm>
            <a:off x="3218040" y="1930320"/>
            <a:ext cx="1498320" cy="447840"/>
          </a:xfrm>
          <a:prstGeom prst="rect">
            <a:avLst/>
          </a:prstGeom>
          <a:ln w="0">
            <a:noFill/>
          </a:ln>
        </p:spPr>
      </p:pic>
      <p:pic>
        <p:nvPicPr>
          <p:cNvPr id="1028" name="Picture 1" descr=""/>
          <p:cNvPicPr/>
          <p:nvPr/>
        </p:nvPicPr>
        <p:blipFill>
          <a:blip r:embed="rId4"/>
          <a:stretch/>
        </p:blipFill>
        <p:spPr>
          <a:xfrm>
            <a:off x="5435640" y="2781360"/>
            <a:ext cx="2592360" cy="331164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1" descr=""/>
          <p:cNvPicPr/>
          <p:nvPr/>
        </p:nvPicPr>
        <p:blipFill>
          <a:blip r:embed="rId5"/>
          <a:stretch/>
        </p:blipFill>
        <p:spPr>
          <a:xfrm>
            <a:off x="7105680" y="1887480"/>
            <a:ext cx="149868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0" dur="10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5" dur="10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0" dur="10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5" dur="10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0" name="图片 1" descr=""/>
          <p:cNvPicPr/>
          <p:nvPr/>
        </p:nvPicPr>
        <p:blipFill>
          <a:blip r:embed="rId1"/>
          <a:stretch/>
        </p:blipFill>
        <p:spPr>
          <a:xfrm>
            <a:off x="200160" y="873000"/>
            <a:ext cx="8743680" cy="578196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1" descr=""/>
          <p:cNvPicPr/>
          <p:nvPr/>
        </p:nvPicPr>
        <p:blipFill>
          <a:blip r:embed="rId2"/>
          <a:stretch/>
        </p:blipFill>
        <p:spPr>
          <a:xfrm>
            <a:off x="4211640" y="335772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1" descr=""/>
          <p:cNvPicPr/>
          <p:nvPr/>
        </p:nvPicPr>
        <p:blipFill>
          <a:blip r:embed="rId3"/>
          <a:stretch/>
        </p:blipFill>
        <p:spPr>
          <a:xfrm>
            <a:off x="5651640" y="3357720"/>
            <a:ext cx="1008000" cy="447480"/>
          </a:xfrm>
          <a:prstGeom prst="rect">
            <a:avLst/>
          </a:prstGeom>
          <a:ln w="0">
            <a:noFill/>
          </a:ln>
        </p:spPr>
      </p:pic>
      <p:pic>
        <p:nvPicPr>
          <p:cNvPr id="1033" name="Picture 1" descr=""/>
          <p:cNvPicPr/>
          <p:nvPr/>
        </p:nvPicPr>
        <p:blipFill>
          <a:blip r:embed="rId4"/>
          <a:stretch/>
        </p:blipFill>
        <p:spPr>
          <a:xfrm>
            <a:off x="7337520" y="3357720"/>
            <a:ext cx="1008000" cy="447480"/>
          </a:xfrm>
          <a:prstGeom prst="rect">
            <a:avLst/>
          </a:prstGeom>
          <a:ln w="0">
            <a:noFill/>
          </a:ln>
        </p:spPr>
      </p:pic>
      <p:pic>
        <p:nvPicPr>
          <p:cNvPr id="1034" name="Picture 1" descr=""/>
          <p:cNvPicPr/>
          <p:nvPr/>
        </p:nvPicPr>
        <p:blipFill>
          <a:blip r:embed="rId5"/>
          <a:stretch/>
        </p:blipFill>
        <p:spPr>
          <a:xfrm>
            <a:off x="4211640" y="422100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1035" name="Picture 1" descr=""/>
          <p:cNvPicPr/>
          <p:nvPr/>
        </p:nvPicPr>
        <p:blipFill>
          <a:blip r:embed="rId6"/>
          <a:stretch/>
        </p:blipFill>
        <p:spPr>
          <a:xfrm>
            <a:off x="5651640" y="4221000"/>
            <a:ext cx="1008000" cy="447840"/>
          </a:xfrm>
          <a:prstGeom prst="rect">
            <a:avLst/>
          </a:prstGeom>
          <a:ln w="0">
            <a:noFill/>
          </a:ln>
        </p:spPr>
      </p:pic>
      <p:pic>
        <p:nvPicPr>
          <p:cNvPr id="1036" name="Picture 1" descr=""/>
          <p:cNvPicPr/>
          <p:nvPr/>
        </p:nvPicPr>
        <p:blipFill>
          <a:blip r:embed="rId7"/>
          <a:stretch/>
        </p:blipFill>
        <p:spPr>
          <a:xfrm>
            <a:off x="7337520" y="4221000"/>
            <a:ext cx="1008000" cy="447840"/>
          </a:xfrm>
          <a:prstGeom prst="rect">
            <a:avLst/>
          </a:prstGeom>
          <a:ln w="0">
            <a:noFill/>
          </a:ln>
        </p:spPr>
      </p:pic>
      <p:pic>
        <p:nvPicPr>
          <p:cNvPr id="1037" name="Picture 1" descr=""/>
          <p:cNvPicPr/>
          <p:nvPr/>
        </p:nvPicPr>
        <p:blipFill>
          <a:blip r:embed="rId8"/>
          <a:stretch/>
        </p:blipFill>
        <p:spPr>
          <a:xfrm>
            <a:off x="4211640" y="504180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1038" name="Picture 1" descr=""/>
          <p:cNvPicPr/>
          <p:nvPr/>
        </p:nvPicPr>
        <p:blipFill>
          <a:blip r:embed="rId9"/>
          <a:stretch/>
        </p:blipFill>
        <p:spPr>
          <a:xfrm>
            <a:off x="5651640" y="5041800"/>
            <a:ext cx="1008000" cy="447840"/>
          </a:xfrm>
          <a:prstGeom prst="rect">
            <a:avLst/>
          </a:prstGeom>
          <a:ln w="0">
            <a:noFill/>
          </a:ln>
        </p:spPr>
      </p:pic>
      <p:pic>
        <p:nvPicPr>
          <p:cNvPr id="1039" name="Picture 1" descr=""/>
          <p:cNvPicPr/>
          <p:nvPr/>
        </p:nvPicPr>
        <p:blipFill>
          <a:blip r:embed="rId10"/>
          <a:stretch/>
        </p:blipFill>
        <p:spPr>
          <a:xfrm>
            <a:off x="7337520" y="5041800"/>
            <a:ext cx="1008000" cy="447840"/>
          </a:xfrm>
          <a:prstGeom prst="rect">
            <a:avLst/>
          </a:prstGeom>
          <a:ln w="0">
            <a:noFill/>
          </a:ln>
        </p:spPr>
      </p:pic>
      <p:pic>
        <p:nvPicPr>
          <p:cNvPr id="1040" name="Picture 1" descr=""/>
          <p:cNvPicPr/>
          <p:nvPr/>
        </p:nvPicPr>
        <p:blipFill>
          <a:blip r:embed="rId11"/>
          <a:stretch/>
        </p:blipFill>
        <p:spPr>
          <a:xfrm>
            <a:off x="4255920" y="589104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1041" name="Picture 1" descr=""/>
          <p:cNvPicPr/>
          <p:nvPr/>
        </p:nvPicPr>
        <p:blipFill>
          <a:blip r:embed="rId12"/>
          <a:stretch/>
        </p:blipFill>
        <p:spPr>
          <a:xfrm>
            <a:off x="5695920" y="5891040"/>
            <a:ext cx="1008000" cy="447840"/>
          </a:xfrm>
          <a:prstGeom prst="rect">
            <a:avLst/>
          </a:prstGeom>
          <a:ln w="0">
            <a:noFill/>
          </a:ln>
        </p:spPr>
      </p:pic>
      <p:pic>
        <p:nvPicPr>
          <p:cNvPr id="1042" name="Picture 1" descr=""/>
          <p:cNvPicPr/>
          <p:nvPr/>
        </p:nvPicPr>
        <p:blipFill>
          <a:blip r:embed="rId13"/>
          <a:stretch/>
        </p:blipFill>
        <p:spPr>
          <a:xfrm>
            <a:off x="7381800" y="5891040"/>
            <a:ext cx="100800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2" dur="10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7" dur="10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2" dur="10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7" dur="10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2" dur="10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7" dur="10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2" dur="10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7" dur="10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2" dur="10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7" dur="10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2" dur="10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7" dur="10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3" name="图片 1" descr=""/>
          <p:cNvPicPr/>
          <p:nvPr/>
        </p:nvPicPr>
        <p:blipFill>
          <a:blip r:embed="rId1"/>
          <a:stretch/>
        </p:blipFill>
        <p:spPr>
          <a:xfrm>
            <a:off x="138240" y="898560"/>
            <a:ext cx="8867520" cy="5591160"/>
          </a:xfrm>
          <a:prstGeom prst="rect">
            <a:avLst/>
          </a:prstGeom>
          <a:ln w="0">
            <a:noFill/>
          </a:ln>
        </p:spPr>
      </p:pic>
      <p:pic>
        <p:nvPicPr>
          <p:cNvPr id="1044" name="Picture 1" descr=""/>
          <p:cNvPicPr/>
          <p:nvPr/>
        </p:nvPicPr>
        <p:blipFill>
          <a:blip r:embed="rId2"/>
          <a:stretch/>
        </p:blipFill>
        <p:spPr>
          <a:xfrm>
            <a:off x="971640" y="2693880"/>
            <a:ext cx="3960720" cy="447840"/>
          </a:xfrm>
          <a:prstGeom prst="rect">
            <a:avLst/>
          </a:prstGeom>
          <a:ln w="0">
            <a:noFill/>
          </a:ln>
        </p:spPr>
      </p:pic>
      <p:pic>
        <p:nvPicPr>
          <p:cNvPr id="1045" name="Picture 1" descr=""/>
          <p:cNvPicPr/>
          <p:nvPr/>
        </p:nvPicPr>
        <p:blipFill>
          <a:blip r:embed="rId3"/>
          <a:stretch/>
        </p:blipFill>
        <p:spPr>
          <a:xfrm>
            <a:off x="826920" y="3429000"/>
            <a:ext cx="3961080" cy="447840"/>
          </a:xfrm>
          <a:prstGeom prst="rect">
            <a:avLst/>
          </a:prstGeom>
          <a:ln w="0">
            <a:noFill/>
          </a:ln>
        </p:spPr>
      </p:pic>
      <p:pic>
        <p:nvPicPr>
          <p:cNvPr id="1046" name="Picture 1" descr=""/>
          <p:cNvPicPr/>
          <p:nvPr/>
        </p:nvPicPr>
        <p:blipFill>
          <a:blip r:embed="rId4"/>
          <a:stretch/>
        </p:blipFill>
        <p:spPr>
          <a:xfrm>
            <a:off x="900000" y="4149720"/>
            <a:ext cx="3961080" cy="447840"/>
          </a:xfrm>
          <a:prstGeom prst="rect">
            <a:avLst/>
          </a:prstGeom>
          <a:ln w="0">
            <a:noFill/>
          </a:ln>
        </p:spPr>
      </p:pic>
      <p:pic>
        <p:nvPicPr>
          <p:cNvPr id="1047" name="Picture 1" descr=""/>
          <p:cNvPicPr/>
          <p:nvPr/>
        </p:nvPicPr>
        <p:blipFill>
          <a:blip r:embed="rId5"/>
          <a:stretch/>
        </p:blipFill>
        <p:spPr>
          <a:xfrm>
            <a:off x="900000" y="4883040"/>
            <a:ext cx="3961080" cy="12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4" dur="10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9" dur="10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4" dur="10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9" dur="10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8" name="图片 1" descr=""/>
          <p:cNvPicPr/>
          <p:nvPr/>
        </p:nvPicPr>
        <p:blipFill>
          <a:blip r:embed="rId1"/>
          <a:stretch/>
        </p:blipFill>
        <p:spPr>
          <a:xfrm>
            <a:off x="257040" y="1143000"/>
            <a:ext cx="8629920" cy="4572000"/>
          </a:xfrm>
          <a:prstGeom prst="rect">
            <a:avLst/>
          </a:prstGeom>
          <a:ln w="0">
            <a:noFill/>
          </a:ln>
        </p:spPr>
      </p:pic>
      <p:pic>
        <p:nvPicPr>
          <p:cNvPr id="1049" name="Picture 1" descr=""/>
          <p:cNvPicPr/>
          <p:nvPr/>
        </p:nvPicPr>
        <p:blipFill>
          <a:blip r:embed="rId2"/>
          <a:stretch/>
        </p:blipFill>
        <p:spPr>
          <a:xfrm>
            <a:off x="900000" y="2852640"/>
            <a:ext cx="3743280" cy="447840"/>
          </a:xfrm>
          <a:prstGeom prst="rect">
            <a:avLst/>
          </a:prstGeom>
          <a:ln w="0">
            <a:noFill/>
          </a:ln>
        </p:spPr>
      </p:pic>
      <p:pic>
        <p:nvPicPr>
          <p:cNvPr id="1050" name="Picture 1" descr=""/>
          <p:cNvPicPr/>
          <p:nvPr/>
        </p:nvPicPr>
        <p:blipFill>
          <a:blip r:embed="rId3"/>
          <a:stretch/>
        </p:blipFill>
        <p:spPr>
          <a:xfrm>
            <a:off x="971640" y="3573360"/>
            <a:ext cx="3743280" cy="447840"/>
          </a:xfrm>
          <a:prstGeom prst="rect">
            <a:avLst/>
          </a:prstGeom>
          <a:ln w="0">
            <a:noFill/>
          </a:ln>
        </p:spPr>
      </p:pic>
      <p:pic>
        <p:nvPicPr>
          <p:cNvPr id="1051" name="Picture 1" descr=""/>
          <p:cNvPicPr/>
          <p:nvPr/>
        </p:nvPicPr>
        <p:blipFill>
          <a:blip r:embed="rId4"/>
          <a:stretch/>
        </p:blipFill>
        <p:spPr>
          <a:xfrm>
            <a:off x="971640" y="4307040"/>
            <a:ext cx="3743280" cy="447480"/>
          </a:xfrm>
          <a:prstGeom prst="rect">
            <a:avLst/>
          </a:prstGeom>
          <a:ln w="0">
            <a:noFill/>
          </a:ln>
        </p:spPr>
      </p:pic>
      <p:pic>
        <p:nvPicPr>
          <p:cNvPr id="1052" name="Picture 1" descr=""/>
          <p:cNvPicPr/>
          <p:nvPr/>
        </p:nvPicPr>
        <p:blipFill>
          <a:blip r:embed="rId5"/>
          <a:stretch/>
        </p:blipFill>
        <p:spPr>
          <a:xfrm>
            <a:off x="971640" y="5084640"/>
            <a:ext cx="489564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6" dur="10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1" dur="10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6" dur="10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1" dur="10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3" name="图片 1" descr=""/>
          <p:cNvPicPr/>
          <p:nvPr/>
        </p:nvPicPr>
        <p:blipFill>
          <a:blip r:embed="rId1"/>
          <a:stretch/>
        </p:blipFill>
        <p:spPr>
          <a:xfrm>
            <a:off x="266760" y="1376280"/>
            <a:ext cx="8610480" cy="4105440"/>
          </a:xfrm>
          <a:prstGeom prst="rect">
            <a:avLst/>
          </a:prstGeom>
          <a:ln w="0">
            <a:noFill/>
          </a:ln>
        </p:spPr>
      </p:pic>
      <p:pic>
        <p:nvPicPr>
          <p:cNvPr id="1054" name="Picture 1" descr=""/>
          <p:cNvPicPr/>
          <p:nvPr/>
        </p:nvPicPr>
        <p:blipFill>
          <a:blip r:embed="rId2"/>
          <a:stretch/>
        </p:blipFill>
        <p:spPr>
          <a:xfrm>
            <a:off x="971640" y="3933720"/>
            <a:ext cx="3671640" cy="447840"/>
          </a:xfrm>
          <a:prstGeom prst="rect">
            <a:avLst/>
          </a:prstGeom>
          <a:ln w="0">
            <a:noFill/>
          </a:ln>
        </p:spPr>
      </p:pic>
      <p:pic>
        <p:nvPicPr>
          <p:cNvPr id="1055" name="Picture 1" descr=""/>
          <p:cNvPicPr/>
          <p:nvPr/>
        </p:nvPicPr>
        <p:blipFill>
          <a:blip r:embed="rId3"/>
          <a:stretch/>
        </p:blipFill>
        <p:spPr>
          <a:xfrm>
            <a:off x="971640" y="4653000"/>
            <a:ext cx="367164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8" dur="10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3" dur="10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20T09:38:05Z</dcterms:modified>
  <cp:revision>2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